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8B6-6196-475E-B148-F2B75758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935-EFB1-413B-9A67-30DABCB8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72D-EFFB-46A6-A74B-638C1434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71F-CD6E-4600-BA7B-A7BAF4F1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AF7-F981-4D05-9736-D57FA088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79F-C33A-44D4-B342-C762B5FB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6D7-8F19-4678-BA59-5AD86472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E60-68B6-41C3-89CE-4B8D9A1E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A9C-A591-4DEC-9D61-56206F9B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B6E-F4D0-424B-9A12-1CD0BC18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B1A-3AF5-4C78-85F7-C3718676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016-9557-4AC0-BD6B-150BC911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D545-E63F-485C-8F19-D82295182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- Unit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diagonal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observe shapes formed by diagonal line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idpoi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ways to find the midpoint of a line seg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edict the shapes that will be formed by joining midpoints of opposite sides of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join midpoints of opposite sides of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- Unit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congruent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similar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 sorting rule to group 2-D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bine two- dimensional shapes to make new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combining two-dimensional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cutting apart two-dimensional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2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 – Unit 10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ransformations: slides, flips and tu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tend geometric patterns that use transform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how and analyze patte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reate and extend growing and motion patte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area by covering and counting non-standard square uni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alculate area by counting square centimet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the area of figures on centimeter grid pap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to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,00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hundr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3-digit numbers with boxes, sticks and circ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from a 3-digit number into the next hund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tell the difference between hundreds, tens, and ones, and place them in the correct ord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by ones and tens over a hundred, from a number more than 100 to a number less than 1,0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quantities (up to 1,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objects into tens and hundr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hat 10 ones are equal to a ten and that 10 tens are equal to a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addition problems to show pl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knowledge of place value to story problems with groups of ten and a hundred and leftover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twenty-five cents with combinations of dimes, nickels and penn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dollar sign and decimal point to write dollar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buy and sell goods using exac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buy and sell goods using a five dollar bill, and make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ain how to make change from a five-dollar bi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group numbers when adding over 1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explain the methods used to solve addition story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discuss what make good explanations and good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invent ways to solve addition problems in which both numbers have three dig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organize data in a 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use information in a table to solve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add 3-digit money amou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esent good explanations of methods used to solve numeric addition exerci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solving 2- and 3-digit addition exerci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Adding up Method to solve unknown partner exercises containing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Adding up Method to make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and solve story problems involving 3-digit subtr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3-digit numbers with a zero in the ones or tens place of the top numb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story problems involving 3-digit subtr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3-digit numbers using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story problems involv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from any 3-digit number with or without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subtraction of any 3-digit numb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whether or not ungrouping is necessary to subtract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riminate between addition and subtraction situations and apply the appropriate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ddition to check subtraction and subtraction to check addi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complex story problems containing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- Unit 11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iscriminate between addition and subtraction situations and apply the appropriate 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money amounts from $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buy and sell go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8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diagonals and connect midpoints of opposite side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observe shapes formed by decomposing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- Unit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bine pennies, nickels, and dimes to make 25 c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by quarters, dimes, nickels, and pennies to different tot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- Unit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a meter stic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pare metric and monetary sys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the length and height of objects and peo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nter data in a 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and answer questions about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meter, centimeter and decime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bbreviations cm, dm, and 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view relationships among centimeters, decimeters, and me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with metric un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2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measures in centimeters to a combination of meters , decimeters, and centime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tory problems requiring metric conver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nderstand the base ten system in metric measurement and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e base ten system in metric and monetary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tory problems involving metric and monetary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2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tinguish between 2- and 3- 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the length, width, and height of a rectangle pris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faces, edges, and vertices of a rectangle pris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cubic units to find volu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name 3-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termine if a solid stacks, rolls, and/or sli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pare 3-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rt 3-dimensional shapes using a Venn diagra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- Unit 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late repeated addition and multiplic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olve multiplicati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2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3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4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by 5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array model for multi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count bys and arrays to solve multiplica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lf, double, tw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al shar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information in a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the meaning of division of equal shares and as repeated subtra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odels to solve simple divisi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lines of symmet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and draw symmetrical sha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symmetry in everyday objec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dentify and represent one half, one third, one fourth, two thirds, and three fourths in geometrical sha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what numerator and denominator signif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fractions using fraction stri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write money amounts in fr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events as impossible, possible or cert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uss whether a game is fair or un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a probability experiment and then do the experiment to check the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all possible outcomes for a probability experiment and decide which is most likely  and least likely to happen.  Then do the experiment to check the predi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numbers to describe the probability of an ev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all the possible combinations for a given sit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mathematical processes in the context of problem solving, connections, reasoning and proof, communication, and re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- Unit 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non-standard uni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and measure in inch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measure in feet and yar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elect the best customary unit to measure a specific lengt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nvert between inches, feet and yar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elect proper measurement tools to be used for a given situ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and measure with cups, pints, quarts, and gall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ounces and poun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de 2 Extension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1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sets of unlike c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order sets of unlike c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the value of 2 sets of mixed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kip count forward and back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nalyze numeric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calculator for counting patter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tate how many pennies, nickels, dimes,  and quarters, equal one dol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bine quarters, dimes, nickels, and pennies  to equal one dol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e dollar and co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unknown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observe similarities between ten partners and hundred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different methods to find partners of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nvent different ways to solve 100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rci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de 2 Extension Unit con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and describe changes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scribe qualitative and quantitative chang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bine 3-dimensional shapes to make new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edict the results of combining 3-dimensional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edict the results of taking apart 3-dimensional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ngroup a ten into ten ones in order to subtr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ways to solve subtraction story problems.  I can decide when to ungroup and when not to un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subtraction methods for rewriting a top number to show ungroup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subtraction problems using the Expanded Method and the Ungroup First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uss the advantages and disadvantages of two subtraction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ubtraction story problems with a preferred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a 2-digit subtraction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methods for solving 2-digit subtraction problems with totals of 2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subtract from a total of 2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a 2-digit number from any 3-digit number under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cide when to ungroup and rewrite in subtr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2-digit numbers  from numbers with a zero in the tens or ones place (totals to 200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change for a dollar in dimes and pen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exact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- Unit 9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addition and subtraction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partners in numbers to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and count on to find unknown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ight equations from a math mount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preferred method to solve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ain a method of solving 2-digit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find unknown part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calculate change from two doll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money amounts and subtract the total from two dollars numerically or by adding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solve unknown partner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solve unknown partner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5:24Z</dcterms:created>
  <dc:creator>MCPS</dc:creator>
  <dc:description/>
  <dc:language>en-US</dc:language>
  <cp:lastModifiedBy>MCPS  User</cp:lastModifiedBy>
  <dcterms:modified xsi:type="dcterms:W3CDTF">2010-03-11T17:56:04Z</dcterms:modified>
  <cp:revision>100</cp:revision>
  <dc:subject/>
  <dc:title>Slide 1</dc:title>
</cp:coreProperties>
</file>